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70-CE21-4537-BDDF-2685FBE4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067-2591-46BF-9EE8-5B218E22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0AE-027A-4079-9DAB-0ED5F471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D90-86D2-4E70-976F-45C63894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FA9-95BB-4FDB-8DEC-716642AC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D24B-1065-4827-B0F2-C4CC1FB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F032-C2F4-4397-B4A0-1D4997B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BE0-0995-48A1-B48D-2CB435D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A0A-50CD-4140-AA5C-9E6A3EA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E943-6E6C-4312-B3C3-7DF98D5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1356-6CAB-4D60-8E30-3D2D0C1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DBD-0F5F-4929-8D6D-C51830A7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20F-D389-40DC-87B2-4D01644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4CF-DEA5-4522-B8DF-D355DFF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7E89-70BB-4339-B46A-54F74E1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A7B-C2FF-45F6-AEDF-965E0EAF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C374-DE63-4C28-94DF-785AEB09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0A3-CD8C-48FC-B5B4-E16333DF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92D-5C4A-4704-A996-1EECE1C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3C6-A14D-4EC4-ADFB-76DB0DC3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37A-BA13-42F0-9381-3028574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FCE-6833-4199-963F-818BB6F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A0A-F186-4731-B39F-23F6BBE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6D4-118F-4501-B1F5-95EBBF8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C8C-B3D1-42E7-92E4-624B24A333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642-A8EB-4F4E-BBA0-910363DB5F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alenet.galegroup.com/servlet/History/hits?docNum=BT2306200579&amp;tab=1&amp;locID=s0003&amp;origSearch=true&amp;hdb=MW&amp;t=RK&amp;s=1&amp;r=d&amp;items=0&amp;secondary=true&amp;o=&amp;sortOrder=&amp;n=10&amp;l=dR&amp;sgPhrase=false&amp;c=1&amp;tabMap=35&amp;bucket=gal&amp;SU=modern+european+history" TargetMode="External"/><Relationship Id="rId2" Type="http://schemas.openxmlformats.org/officeDocument/2006/relationships/hyperlink" Target="http://galenet.galegroup.com/servlet/History/hits?docNum=A131865660&amp;tab=2&amp;locID=s0003&amp;origSearch=false&amp;hdb=MW&amp;t=RK&amp;s=1&amp;r=d&amp;items=0&amp;secondary=true&amp;o=&amp;sortOrder=RE&amp;n=10&amp;l=dJ&amp;sgPhrase=false&amp;c=2&amp;tabMap=35&amp;bucket=iac&amp;SU=modern+european+history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c.europa.eu/index_en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 – Modern European History 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23960" y="2667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Y SUBJECT GUID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iversity Library provides a subject specialist or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Specialty Librarian in Histor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1840" y="452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European History Research Gui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1840" y="1447920"/>
            <a:ext cx="875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9760" y="3578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story KEY WEBSITE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ther resources found by browsing UCONN’s links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786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S: Modern World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ersailles Treaty and the Rise of Nazism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History in Dispute, Vol. 16: Twentieth-Century European Social and Political Movements. Paul du Quenoy, ed. St. James Press, 2004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Themes in Modern European History Since 1945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Journal of European Studies Mar 1, 200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8640" y="47880"/>
            <a:ext cx="53136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Search Sou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200" y="990720"/>
            <a:ext cx="8912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vidual Articles:  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Consider some ‘hits’ might be articles that are just book reviews… but might be useful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some are articles with FULL TEX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ok through lists: for the quality and Full Tex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tle:Discovering inner freedom: Philip Boobbyer, a lecturer in modern European history at the University of Kent, puts cleaning one's slate in a wider philosophical contex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For A Chang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tail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hilip Boobbyer. 12.1 (Feb-March 1999): p.10-11. (1667 words) From 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General OneF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-tex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6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 People mentioned in article: 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exander Solzhenitsy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5345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uropean History and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lexander Solzhenitsy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826920"/>
            <a:ext cx="8610480" cy="57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23960" y="80028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earches may yield only Abstracts or limited resul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5520" y="1406520"/>
            <a:ext cx="87598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both Abstract &amp; Full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exist in most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– try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websites in EUROPE have  information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c.europa.eu/index_en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uropean Government Web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5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Finding History Gu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15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05320" y="804960"/>
            <a:ext cx="6695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y Resources in Databa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09-21T20:13:59Z</dcterms:modified>
  <cp:revision>16</cp:revision>
  <dc:subject/>
  <dc:title>Library Orientation</dc:title>
</cp:coreProperties>
</file>